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8210-123A-4D89-8C2D-65A4E4CB3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BA89-FBF3-49BC-806D-06CACED1F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315E-51C9-4947-AF17-B2A114EC7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7F64-746D-4E25-8961-7DFCF38E84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A3F6-3440-4A9C-B4BA-512918515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6AD0-5095-4B13-B32F-B73A7D0F3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B1BA-BBBF-48E1-8456-5A322478F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B75D-42CC-44CA-A10B-222D627F5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8B49-B43A-4168-B8C6-0CD72A703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823E-E108-4E59-BA43-5DB20FE93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5234-24D4-4A17-A683-A3F18ECF7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7036-B5B3-47EB-B2B5-00340CB11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FAF8-DCA7-4849-8649-5EA7AE09D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B2E9-15C8-4124-A34B-2AA4C5181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6293-02FE-4A1D-946E-6EC56D8A9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95E6-F2A8-4226-9CEC-EB16269E72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294E-729B-4AEB-AECA-0982BD118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1705-24BE-420C-BA95-B8DDC4DE2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D1EE-EBC7-4277-B599-72365269E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F223-B299-47E2-93D7-37B1ACB70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480F-B159-48DB-8FB1-0147A5570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11C5-B220-411E-A7C7-9D1BAAD21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76FF-9D56-4B7D-9DBF-0C0877AC3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0755-0380-4971-BF7C-DB882909E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F3B2-5156-4733-9342-8DBD9359D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2E82-6A00-4821-A6A5-5AEA7F717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9FE0-2E6A-431B-888C-032E836E4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F086-4114-479F-8B9A-77BAB4206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564-5298-4314-B5BA-696D3EF7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00A-567F-47E8-94C1-D519FEE3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AA3-F9F6-4EAC-863D-06114345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2FF-8970-42B5-88A2-81432D95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F88-3872-4CC0-A98D-17BA1028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219-8EA1-457B-8D76-C2698FBD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F78-ED86-44A8-B375-2944FDFC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0F8-5572-4A52-B76D-53D6BDC5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056-6381-4826-8E14-63181CB8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2D2-AFD1-48E9-8FE0-1444F5E2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394-F1BD-46B3-8F5A-6F5DDA3C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0F94-8C7A-472B-9ED0-A861251A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0D51-F7F7-46B1-8104-E97BAFDF4AD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4.2/Hou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of various types are used by criminals to make crime proceeds more difficult to tr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can be performed using bank accounts, e-currency, Internet payment services, money remittance servic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hallenges arise to the investigation, search, seizure and confiscation of criminal funds when the funds have been transferred international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gains control of (for example) compromised customer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transferred to mules in same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es transfer funds by international bank transfer to a natural or legal person in a different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virtual currencies and e-money do you know ab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rtu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virtual currency is a digital representation of value that can be traded on the Internet and functions as (1) a medium of exchange; (2) a unit of account; and/or (3) a store of value, but does not have legal tender status in any jurisdi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ctronic Money/e-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al currency is distinct from e-money, which is a digital representation of fiat currency used to electronically transfer value denominated in fiat currency. E-money is a digital transfer mechanism for fiat currency – i.e. it electronically transfers value that has legal tender stat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it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gital currency is a digital representation of either virtual currency (non-fiat) or e-money (fia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 is the significance of the expression “digital representation” in the above defini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tegorising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convertible virtual currency has an equivalent value in real currency and can be exchanged back-and-forth for real currency. Examples: Bitcoin, Second Life Linden Dollars, WebMone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n-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A non-convertible virtual currency is intended to be specific to a particular virtual domain or world, and under the rules governing its use cannot be exchanged for fiat currency. Examples: Q Coins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Centralised virtual currencies have a single administrating authority (i.e. a third party) that controls the system. The administrator issues the currency, establishes the rules for its use, maintains a central payment ledger and has authority to redeem the currency. Examples: Linden Dollars, WebMoney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ecentralised virtual currencies are distributed, math-based, peer-to-peer virtual currencies that have no central administrating authority, no central monitoring and no oversight. Examples: Bitcoin, LiteCoin, Ripp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is a convertible, decentralised virtual currenc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take place between users without an intermedia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are verified using a public distributed ledger, called the blockchai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mining is the process by which users offer their computing power to verify and record bitcoin transactions into the blockchain. For this, the users receive a reward in newly created bitcoi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transaction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ly instantaneous transactions (approx 10 mins until transaction is confirme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take place between anonymous IDs (wallet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(or zero) transaction f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are not rever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6"/>
          <p:cNvSpPr/>
          <p:nvPr/>
        </p:nvSpPr>
        <p:spPr>
          <a:xfrm>
            <a:off x="685800" y="345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stomer 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565240" y="353232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itcoin Wal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3433680" y="505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&amp;C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9"/>
          <p:cNvSpPr/>
          <p:nvPr/>
        </p:nvSpPr>
        <p:spPr>
          <a:xfrm>
            <a:off x="7548120" y="6199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849760" y="60976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rim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inal Use of Virtual Currency: 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Eco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Ex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Administ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r/Ow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Wall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llet Provi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ch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ities (software developers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 between Virtual Currencies and the Traditional Financia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ly obtained funds are converted to virtual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criminal services are paid for in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funds are extorted from victims in the form of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virtual currency is traded or exchanged for fiat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the inconsistent regulation of virtual currencies, virtual currency exchanges in all jurisdictions may not have adequate customer records and/or reporting obliga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Virtual Curr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ey mules are an essential component of many online laundering sche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les are recruited through a variety of techniques, which can be broadly categorised in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ing mules, who are recruited knowing in advance that they are participating in illegal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willing mules, who are recruited through deceptive means, such as through a fake job off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lling vs unwill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are recruited either willingly or unwilling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into the mule’s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then either withdraws the funds as cash or transfers the funds to another account (or abroa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retains a commi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alue of arresting/charg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m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5:22:32Z</dcterms:modified>
  <cp:revision>343</cp:revision>
  <dc:subject/>
  <dc:title>PowerPoint Presentation</dc:title>
</cp:coreProperties>
</file>